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EF67-9CFC-46B4-96A2-B63D3D15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46BD-E4E5-41E4-864F-2F5D834B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3D72-D09C-43B1-86BD-5F403281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F919-8E48-49A1-8CDD-FFDD4B7B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DF36-76E7-449E-BC62-DAFF84DF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C354-83D0-4D3C-888F-AC92BF4C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575-6DAC-4694-A5CF-9770BE27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CEE7-11B6-441B-9F65-7771457A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E58C-F0FD-4746-8E27-7CBEF71D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444-13D9-4926-B97F-6CC9F77D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95D-231A-49FE-BCFE-05955D96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754B-72CA-461C-BD3E-C0F6DD74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A030-F584-439E-9246-612C580C85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The 68-95-99.7% Rule and z-scor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z-scor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Calculate z-scores using the formula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where </a:t>
            </a:r>
            <a:r>
              <a:rPr b="0" i="1" lang="en-AU" sz="3000" spc="-1" strike="noStrike">
                <a:solidFill>
                  <a:srgbClr val="000000"/>
                </a:solidFill>
                <a:latin typeface="Cambria Math"/>
              </a:rPr>
              <a:t>x  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is the score,      is the mean, and s is the standard deviation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A z-score of -1 would mean that the score is one standard deviation below the mean. A score that is one standard deviation above the mean would have a z-score of +1.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68" name="Object 2"/>
          <p:cNvGraphicFramePr/>
          <p:nvPr/>
        </p:nvGraphicFramePr>
        <p:xfrm>
          <a:off x="1928880" y="2143080"/>
          <a:ext cx="176364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2143080"/>
                    <a:ext cx="176364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3"/>
          <p:cNvGraphicFramePr/>
          <p:nvPr/>
        </p:nvGraphicFramePr>
        <p:xfrm>
          <a:off x="4286160" y="3429000"/>
          <a:ext cx="42876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6160" y="3429000"/>
                    <a:ext cx="4287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s: 15, 20, 23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Questions: 16, 19, 22, 25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shape of histograms sometimes approximate what is known as a “bell-shape.”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5" name="Picture 4" descr="MY Normal distribution histogram.png"/>
          <p:cNvPicPr/>
          <p:nvPr/>
        </p:nvPicPr>
        <p:blipFill>
          <a:blip r:embed="rId1"/>
          <a:stretch/>
        </p:blipFill>
        <p:spPr>
          <a:xfrm>
            <a:off x="1785960" y="3000240"/>
            <a:ext cx="60674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By joining the columns of the histogram together, a bell-shaped curve is formed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When we get data that forms a bell-shape, we call it a </a:t>
            </a:r>
            <a:r>
              <a:rPr b="0" lang="en-AU" sz="2800" spc="-1" strike="noStrike">
                <a:solidFill>
                  <a:srgbClr val="ff0000"/>
                </a:solidFill>
                <a:latin typeface="Cambria"/>
              </a:rPr>
              <a:t>normal distribution</a:t>
            </a: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wo important things to remember about normal distributions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The mean of the data,     , is at the centre of the bell-curv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Most of the data is gathered close to the mean. The further we go from the mean the less data there i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48" name="Object 5"/>
          <p:cNvGraphicFramePr/>
          <p:nvPr/>
        </p:nvGraphicFramePr>
        <p:xfrm>
          <a:off x="4143240" y="4429080"/>
          <a:ext cx="366840" cy="3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240" y="4429080"/>
                    <a:ext cx="3668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The 68-95-99.7% rul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Recall that standard deviation, s, is a measure of the spread of the data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n a normal distribution,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68% of data have values within 1 standard deviation of the mean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2" name="Picture 3" descr="68%.png"/>
          <p:cNvPicPr/>
          <p:nvPr/>
        </p:nvPicPr>
        <p:blipFill>
          <a:blip r:embed="rId1"/>
          <a:stretch/>
        </p:blipFill>
        <p:spPr>
          <a:xfrm>
            <a:off x="1143000" y="4143240"/>
            <a:ext cx="666108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The 68-95-99.7% rul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95% of the data have values within 2 standard deviations of the mean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5" name="Picture 4" descr="95%.png"/>
          <p:cNvPicPr/>
          <p:nvPr/>
        </p:nvPicPr>
        <p:blipFill>
          <a:blip r:embed="rId1"/>
          <a:stretch/>
        </p:blipFill>
        <p:spPr>
          <a:xfrm>
            <a:off x="1285920" y="2857680"/>
            <a:ext cx="66420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The 68-95-99.7% rul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99.7% of the data have values within 3 standard deviations of the mean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8" name="Picture 4" descr="99.7%.png"/>
          <p:cNvPicPr/>
          <p:nvPr/>
        </p:nvPicPr>
        <p:blipFill>
          <a:blip r:embed="rId1"/>
          <a:stretch/>
        </p:blipFill>
        <p:spPr>
          <a:xfrm>
            <a:off x="1285920" y="3143160"/>
            <a:ext cx="66405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The 68-95-99.7% rul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Using the 68-95-99.7% rule, we can work out the percentage of data in each section of the bell curv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Picture 3" descr="68-95-99.7% Diagram.png"/>
          <p:cNvPicPr/>
          <p:nvPr/>
        </p:nvPicPr>
        <p:blipFill>
          <a:blip r:embed="rId1"/>
          <a:stretch/>
        </p:blipFill>
        <p:spPr>
          <a:xfrm>
            <a:off x="857160" y="3357720"/>
            <a:ext cx="675648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s on board 1I, Q. 2, 3, 4, 10, 13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Questions: 5, 7, 9, 11, 14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z-scor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z-score indicates the position of a certain score in a set of data relative to the mean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t enables us to compare scores in different distribution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 z-score of zero means that the score is equal to the mean. A negative z-score means that the score is below the mean, and a positive z-score is a score above the mean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05:41:29Z</dcterms:created>
  <dc:creator>08843474</dc:creator>
  <dc:description/>
  <dc:language>en-US</dc:language>
  <cp:lastModifiedBy>08843474</cp:lastModifiedBy>
  <dcterms:modified xsi:type="dcterms:W3CDTF">2011-02-03T23:40:35Z</dcterms:modified>
  <cp:revision>33</cp:revision>
  <dc:subject/>
  <dc:title>The 68-95-99.7% Rule and z-scores</dc:title>
</cp:coreProperties>
</file>